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8F7-D752-47BF-A8D8-4F3A51F9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103-5AA5-4332-BCD0-2726030A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335-A780-4F7A-8354-D51D757D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C1F-76BA-48DD-8378-2427DE3D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A2F-3D55-4CDF-8432-2131D4EE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EA8-5574-4125-9673-563B66C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BB4-564C-4319-92BB-F8DA4CC8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077-7E3C-49D0-8B0D-E4D816D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34E-C2FE-4E6F-B6BD-547127F8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230-B01A-4CCB-9120-8F4B919B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8FA-647E-42F2-8CA2-FFCC21E7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59C-19D0-4BB7-AE0E-4F952BA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B1B9-F0AD-4FE2-AD1D-6F419634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981080"/>
            <a:ext cx="2514600" cy="25146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724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4724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762120"/>
            <a:ext cx="3505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  <a:ea typeface="Arial"/>
              </a:rPr>
              <a:t>1. </a:t>
            </a: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Where am I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334120"/>
            <a:ext cx="2743200" cy="78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2. Where are I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556272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5257800"/>
            <a:ext cx="35053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3. How will we get to where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want to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627696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dapted from The QLD Framework and 5 Key Questions, O’Neil &amp; Conzemius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2:21:37Z</dcterms:created>
  <dc:creator>North Rockland High School</dc:creator>
  <dc:description/>
  <dc:language>en-US</dc:language>
  <cp:lastModifiedBy>North Rockland Schools</cp:lastModifiedBy>
  <dcterms:modified xsi:type="dcterms:W3CDTF">2009-05-14T14:29:43Z</dcterms:modified>
  <cp:revision>1</cp:revision>
  <dc:subject/>
  <dc:title>Slide 1</dc:title>
</cp:coreProperties>
</file>